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3AD-C886-4E59-8C3B-F2BFB30E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263-1469-46C1-997C-A18FD67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8F3-1CFB-4962-BC6F-5CD1765E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C82-0E1C-4B37-876D-C9B45D11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879-B523-4A0F-A1DA-FAB7A16A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555-CCB1-445D-AA65-C5C8E24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690F-25EA-4261-9B02-A4FF2E73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904-E110-494A-9CF1-F53E2001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3CD6-48FA-4308-80F5-4066A96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B4F0-1CEF-46E0-9BB6-F4C31395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8ACB-4FA2-4914-8984-B80CDEE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37E-C556-4DB9-986A-DDFCD84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D379-71EF-4972-91AB-EB398E2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AD4-C453-4C08-A66B-A040581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703-ACA5-4C0F-8415-5BB90E0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E437-5589-45B9-B4F0-740FD224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E7D4-BF73-4699-B99B-AA922F7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A462-6E03-48F1-842C-D6394E34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CDD8-9989-4DF5-88A0-697078F1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CDDF-26E2-4689-B267-08761E6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FF45-D93C-4047-A173-A277304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D3FD-36D5-424E-B33E-74D8FAB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5FF-8FFB-4771-8EF6-81DCD772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592E-78B8-433B-B091-45797A84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D7D1-6E25-44F9-A70D-7B08018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9A39-8E6B-49CC-9C0F-4394797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07DD-EA13-414E-A8CC-FAF341B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47E6-78A6-422B-BE2B-5031AF7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796C-5384-4A77-A7D5-9EA2A02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4EA1-C96E-4728-9BCA-42FB8DE8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4A6-DC31-447B-88D6-A610A265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DA7-D351-43EB-B94C-21DE83D4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A6D-213B-4EC7-9DF8-1FACA17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192-E26B-41F8-B152-EDC39BE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78-DAAA-48B6-A953-3F87F6F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FE0-D9AF-464F-81EE-DA8C614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B9D2-A104-4A9F-9F6A-A637065EE69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90B-889C-4B79-9D00-DDDECE66487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BF2-EAAE-4894-8E8A-0D914245C49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.autorambler.ru/news/getimg.php?id=2656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pic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359240" y="0"/>
            <a:ext cx="4784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Arial Black"/>
              </a:rPr>
              <a:t>Сказ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00"/>
                </a:solidFill>
                <a:latin typeface="Arial Black"/>
              </a:rPr>
              <a:t>о трёх 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«</a:t>
            </a:r>
            <a:r>
              <a:rPr b="1" i="1" lang="ru-RU" sz="7000" spc="-1" strike="noStrike">
                <a:solidFill>
                  <a:srgbClr val="008000"/>
                </a:solidFill>
                <a:latin typeface="Arial Black"/>
              </a:rPr>
              <a:t>НЕ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947400" y="5643720"/>
            <a:ext cx="36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МБОУ «Средняя школа №9» ЕМР 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 Black"/>
              </a:rPr>
              <a:t>Театр здоровья 4б кла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Руководители: Габдельбарова С. 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             </a:t>
            </a: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Кочнева Е.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вниматель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ff"/>
                </a:solidFill>
                <a:latin typeface="Verdana"/>
              </a:rPr>
              <a:t>осторож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знание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правил дорожного движения!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M8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611280" y="260280"/>
            <a:ext cx="7921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казка был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но в ней намек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шеходам всем урок: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чтоб в аварию не попадат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надо знать и соблюдать,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сем без исключения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ПРАВИЛА ДВИЖЕНИЯ!</a:t>
            </a: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44D72EBDE45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7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Картинка 187 из 12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583280" y="2421000"/>
            <a:ext cx="6161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Verdana"/>
              </a:rPr>
              <a:t>АВАРИЯ!!!</a:t>
            </a:r>
            <a:endParaRPr b="0" lang="en-US" sz="10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2sent"/>
          <p:cNvPicPr/>
          <p:nvPr/>
        </p:nvPicPr>
        <p:blipFill>
          <a:blip r:embed="rId1"/>
          <a:srcRect l="0" t="0" r="0" b="7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693dcd64230593679c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80992-Sepik"/>
          <p:cNvPicPr/>
          <p:nvPr/>
        </p:nvPicPr>
        <p:blipFill>
          <a:blip r:embed="rId2"/>
          <a:srcRect l="15871" t="8652" r="8345" b="0"/>
          <a:stretch/>
        </p:blipFill>
        <p:spPr>
          <a:xfrm>
            <a:off x="1763640" y="0"/>
            <a:ext cx="71643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973240" y="61657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нспектор ГИБДД Ив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002-003-Dorogie-deti"/>
          <p:cNvPicPr/>
          <p:nvPr/>
        </p:nvPicPr>
        <p:blipFill>
          <a:blip r:embed="rId1"/>
          <a:stretch/>
        </p:blipFill>
        <p:spPr>
          <a:xfrm>
            <a:off x="4427640" y="1341360"/>
            <a:ext cx="25700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Безимени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1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5445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ШЕХОД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Рисунок5.jpg"/>
          <p:cNvPicPr/>
          <p:nvPr/>
        </p:nvPicPr>
        <p:blipFill>
          <a:blip r:embed="rId2"/>
          <a:stretch/>
        </p:blipFill>
        <p:spPr>
          <a:xfrm>
            <a:off x="3564000" y="1413000"/>
            <a:ext cx="357804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Безимени-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2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32000" y="5373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ОСТОРОЖНО, ДЕТ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6" descr="Рисунок11.png"/>
          <p:cNvPicPr/>
          <p:nvPr/>
        </p:nvPicPr>
        <p:blipFill>
          <a:blip r:embed="rId2"/>
          <a:stretch/>
        </p:blipFill>
        <p:spPr>
          <a:xfrm>
            <a:off x="2995560" y="1197000"/>
            <a:ext cx="51706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03640" y="5805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РЕМОНТ ДОРОГ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5" descr="Рисунок2.png"/>
          <p:cNvPicPr/>
          <p:nvPr/>
        </p:nvPicPr>
        <p:blipFill>
          <a:blip r:embed="rId2"/>
          <a:stretch/>
        </p:blipFill>
        <p:spPr>
          <a:xfrm>
            <a:off x="3276720" y="1341360"/>
            <a:ext cx="4870440" cy="42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269588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айна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рёх 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НЕ</a:t>
            </a: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на которы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держится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АВАРИЯ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42:19Z</dcterms:created>
  <dc:creator>Пользователь</dc:creator>
  <dc:description/>
  <dc:language>en-US</dc:language>
  <cp:lastModifiedBy>school</cp:lastModifiedBy>
  <dcterms:modified xsi:type="dcterms:W3CDTF">2011-04-29T10:56:30Z</dcterms:modified>
  <cp:revision>15</cp:revision>
  <dc:subject/>
  <dc:title>Слайд 1</dc:title>
</cp:coreProperties>
</file>